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58F1-0DC5-4FC4-9221-A00352D8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BA11-A4FF-4BF6-BAEF-8AB98C39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5B6D-69FE-4465-9504-603B3E79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6BCC-767D-440E-AECD-CFB58F70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0403-C84C-4156-AC9A-8B2B28C9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4FB4-58A9-4E49-A177-A807792D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70D3-EB75-4F5B-9A64-9768E341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A06A-C0AC-44C9-A497-0ACA9557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66D9-B322-4AC6-A68C-2B6ED378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961A-C75B-45C3-9E89-A403B387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33EA-5B8E-4466-A19E-6800D40B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813-E473-42AA-8A65-BFBD956E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CD19-106E-4965-BCCB-C3EDE4CC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E08E-4659-43E8-B422-6022FC95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1BF6-E10C-4581-AFC8-235F2692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CAF4-B800-4029-83E7-83C7974A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A1B5-BA2A-469B-9F35-6C285A62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2DC7-269A-41B0-A03F-04AB8CA5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784-AF1D-4A52-A3F8-384E1E3B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ED8B-81DC-4A6C-9E41-DD73DA6A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B8D-A0AD-4870-BFE1-763A5876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ECD-79A4-4272-B757-3995F511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F6B-7003-49D0-B440-01CC883F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390-9A74-432C-8804-74961F59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5D8A-A50E-45C8-AE31-85C09C9D2A7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CA92-9552-4D8A-A5AA-F9B1A5677C1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99"/>
                </a:solidFill>
                <a:latin typeface="Arial"/>
              </a:rPr>
              <a:t>DOL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 to 8 seconds after you swallow your food is all ready in you’re stomach, it purees your food quick and efficie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rected Senten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Fou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eigh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econds after you swallow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your food is 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alread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you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tomach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stomach purees your food 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quickl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efficient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ocused Freewr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uld you rather find true lo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d 10 million dollar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vocabulary squar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hapter 4-answer the following questions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re does Scout receive the majority of her education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does Scout find in the tree in the Radley house when she is alon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do Jem and Scout find in the hiding place together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do you think the objects got in the tre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did the children amuse themselves during Dill’s second summer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 you think their parents should have allowed them to play this gam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o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od is the emotions that you feel while you are reading. Some literature makes you feel sad, others joyful, still others, angry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handou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od Cont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the chapter we read for homework and describe what the mood is and what words the author uses to show this mood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Writing Activity-Homework, due Friday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ice how Harper Lee uses language to intensify the mood of terror and suspense as Jem trespasses on the Radley property. Describe a time when you were very frightened, or make up a scary situation. Use language that evokes all of your senses to recreate the feeling of terror that you experienced. Make the reader scared. 1 full pag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7:58:15Z</dcterms:created>
  <dc:creator>rebecca</dc:creator>
  <dc:description/>
  <dc:language>en-US</dc:language>
  <cp:lastModifiedBy>rebecca</cp:lastModifiedBy>
  <dcterms:modified xsi:type="dcterms:W3CDTF">2009-01-21T17:54:12Z</dcterms:modified>
  <cp:revision>4</cp:revision>
  <dc:subject/>
  <dc:title>DOL</dc:title>
</cp:coreProperties>
</file>